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616-F64A-4395-97EB-DC772F49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373-ECB8-4B9B-83B3-A28C3F5FB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5BE-C7F6-433F-8AAF-1AD6A38E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A79-4B1D-4722-8F82-5B17C16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902-7CB2-452D-8BEC-C2CEBC25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57E-9DE0-4CC8-8C5F-1EC14F36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9C8-DF17-4B1C-B551-48741301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3ED-9380-4196-AB81-C2394C3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B5E-01A2-403C-BE1B-EC47A4F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915-4257-4274-986E-4C781C5A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4C9-A280-4E0C-A776-C20290A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7C6-847E-48EA-B14E-EF76EE2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D5B-FA82-4E1F-94F5-27D4230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E74-5F04-4AEC-B574-671E532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5C90-44B9-4996-9F84-2D1C90CABA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en.wikipedia.org/wiki/File:Flag_of_Egypt.sv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hyperlink" Target="http://www.theodora.com/wfbcurrent/egypt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505320" y="0"/>
            <a:ext cx="228600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Egy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country that is one of the oldest most continuous civiliz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666880" y="1905120"/>
            <a:ext cx="4267440" cy="3722400"/>
          </a:xfrm>
          <a:prstGeom prst="rect">
            <a:avLst/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"/>
              </a:rPr>
              <a:t>Country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ital: 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guage: Arabic/French,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ns: Muslim 94%, Christian and  Other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eracy Rate: 66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ural Resources: Petroleum,  Natural Gas, Phosphates, and Iron 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4343400"/>
            <a:ext cx="16765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ypt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http://www.worldatlas.com/webimage/countrys/africa/egafrica.gif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08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Map of Egypt"/>
          <p:cNvPicPr/>
          <p:nvPr/>
        </p:nvPicPr>
        <p:blipFill>
          <a:blip r:embed="rId3"/>
          <a:stretch/>
        </p:blipFill>
        <p:spPr>
          <a:xfrm>
            <a:off x="0" y="0"/>
            <a:ext cx="2590920" cy="284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http://upload.wikimedia.org/wikipedia/commons/thumb/f/fe/Flag_of_Egypt.svg/300px-Flag_of_Egypt.svg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97180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Theatre of El Salam in Alexandria"/>
          <p:cNvPicPr/>
          <p:nvPr/>
        </p:nvPicPr>
        <p:blipFill>
          <a:blip r:embed="rId6"/>
          <a:stretch/>
        </p:blipFill>
        <p:spPr>
          <a:xfrm>
            <a:off x="0" y="4876920"/>
            <a:ext cx="2133720" cy="1601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7"/>
          <p:cNvSpPr/>
          <p:nvPr/>
        </p:nvSpPr>
        <p:spPr>
          <a:xfrm>
            <a:off x="0" y="6488280"/>
            <a:ext cx="2286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Day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multimedia-publishing.com/t028267a.jpg"/>
          <p:cNvPicPr/>
          <p:nvPr/>
        </p:nvPicPr>
        <p:blipFill>
          <a:blip r:embed="rId7"/>
          <a:stretch/>
        </p:blipFill>
        <p:spPr>
          <a:xfrm>
            <a:off x="3962520" y="5181480"/>
            <a:ext cx="1600200" cy="1067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6"/>
          <p:cNvSpPr/>
          <p:nvPr/>
        </p:nvSpPr>
        <p:spPr>
          <a:xfrm>
            <a:off x="3962520" y="6211800"/>
            <a:ext cx="18288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7772400" y="6477120"/>
            <a:ext cx="13716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y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eetside Clothes market in Luxor, Egypt phot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05720" y="373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6705720" y="5791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thing in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1-07T16:35:27Z</dcterms:modified>
  <cp:revision>22</cp:revision>
  <dc:subject/>
  <dc:title>Slide 1</dc:title>
</cp:coreProperties>
</file>